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8A4-EF85-451A-B03D-C45B7AD2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50A4-A80C-47A1-813D-A78F2546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65C-F113-4BA9-8B0D-D41715FC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024-E235-4EC4-8E18-732F9BF0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3B2-EE0F-4910-9398-0707829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121-94F8-49FA-AD68-62318FF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1CB-31C5-4118-A9FA-C58F7280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F54-1E4F-4953-9463-C3DF4430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542-DA34-472E-9DE1-5A7D79E3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BA5-6D68-41C2-8625-2AF5632A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EA2-87A2-4DCC-AD1C-11E02345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BA9-2BF9-454D-BE89-51D8DFB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B5CE-FCCE-4C66-A2BE-672F02CCA861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5280" y="1197000"/>
            <a:ext cx="849780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pic>
        <p:nvPicPr>
          <p:cNvPr id="42" name="Прямоугольник 14" descr=""/>
          <p:cNvPicPr/>
          <p:nvPr/>
        </p:nvPicPr>
        <p:blipFill>
          <a:blip r:embed="rId1"/>
          <a:stretch/>
        </p:blipFill>
        <p:spPr>
          <a:xfrm>
            <a:off x="804960" y="974880"/>
            <a:ext cx="7742160" cy="21952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15"/>
          <p:cNvSpPr/>
          <p:nvPr/>
        </p:nvSpPr>
        <p:spPr>
          <a:xfrm>
            <a:off x="4572000" y="501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39640" y="461520"/>
            <a:ext cx="7920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ые правила рационального питан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 такое рациональное пита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происходит от латинского «Rationalis» - умный. Это физиологически полноценное питание здоровых людей, которое является разнообразным и сбалансированным по всем компонента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циональное питание следует рассматривать, как одну из главных составных частей здорового образа жизни, как один из факторов продления активного периода жизнедеятельности. 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0" descr="frukty"/>
          <p:cNvPicPr/>
          <p:nvPr/>
        </p:nvPicPr>
        <p:blipFill>
          <a:blip r:embed="rId1"/>
          <a:stretch/>
        </p:blipFill>
        <p:spPr>
          <a:xfrm>
            <a:off x="468360" y="5229360"/>
            <a:ext cx="1871640" cy="1420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02"/>
          <p:cNvPicPr/>
          <p:nvPr/>
        </p:nvPicPr>
        <p:blipFill>
          <a:blip r:embed="rId2"/>
          <a:stretch/>
        </p:blipFill>
        <p:spPr>
          <a:xfrm>
            <a:off x="6762600" y="5076720"/>
            <a:ext cx="238140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нципы  рационального питани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ергетическая ценность питания должна соответствовать энергетическим затратам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ответствие химического состава пищевых веществ физиологическим потребностям организ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ое разнообразие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блюдение оптимального режима пит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 Black"/>
              </a:rPr>
              <a:t>Режим питания</a:t>
            </a:r>
            <a:r>
              <a:rPr b="0" lang="ru-RU" sz="44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ищу принимать рекомендуется четыре раза в сут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омендуется регулярность, кратность и чередование приемов пи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час до завтрака можно выпить стакан кипяченой воды комнатной температуры для нормализации функции кишечник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комендуется увеличить потребление продуктов, содержащих клетчатку – хлеба из муки грубого помола, отрубей, моркови, свеклы, чернослива.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tmpl179_8"/>
          <p:cNvPicPr/>
          <p:nvPr/>
        </p:nvPicPr>
        <p:blipFill>
          <a:blip r:embed="rId1"/>
          <a:stretch/>
        </p:blipFill>
        <p:spPr>
          <a:xfrm>
            <a:off x="7308720" y="260280"/>
            <a:ext cx="1513080" cy="132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tmpl181_0"/>
          <p:cNvPicPr/>
          <p:nvPr/>
        </p:nvPicPr>
        <p:blipFill>
          <a:blip r:embed="rId2"/>
          <a:stretch/>
        </p:blipFill>
        <p:spPr>
          <a:xfrm>
            <a:off x="468360" y="115920"/>
            <a:ext cx="1219320" cy="127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9900cc"/>
                </a:solidFill>
                <a:uFillTx/>
                <a:latin typeface="Calibri"/>
              </a:rPr>
              <a:t>Полезные и вредные продукты питания</a:t>
            </a:r>
            <a:r>
              <a:rPr b="0" lang="ru-RU" sz="36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ые полезные продук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чернослив и темные сливы, тёмные сорта винограда, фасоль, помидоры, свёкла, яблоки, шпинат, гранаты, грейпфрут, разные ягоды, чеснок, лук, какао, разные орехи, зелень,  баклажа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свежая ягода "/>
          <p:cNvPicPr/>
          <p:nvPr/>
        </p:nvPicPr>
        <p:blipFill>
          <a:blip r:embed="rId1"/>
          <a:stretch/>
        </p:blipFill>
        <p:spPr>
          <a:xfrm>
            <a:off x="5148360" y="3789360"/>
            <a:ext cx="2867040" cy="2154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свежие овощи фрукты "/>
          <p:cNvPicPr/>
          <p:nvPr/>
        </p:nvPicPr>
        <p:blipFill>
          <a:blip r:embed="rId2"/>
          <a:stretch/>
        </p:blipFill>
        <p:spPr>
          <a:xfrm>
            <a:off x="971640" y="3789360"/>
            <a:ext cx="2867040" cy="215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cc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9640" y="155736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www.krasotka.biz/Files/file20227.jpg"/>
          <p:cNvPicPr/>
          <p:nvPr/>
        </p:nvPicPr>
        <p:blipFill>
          <a:blip r:embed="rId1"/>
          <a:stretch/>
        </p:blipFill>
        <p:spPr>
          <a:xfrm>
            <a:off x="324000" y="671400"/>
            <a:ext cx="8569080" cy="578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редные продукты:  газированные напитки, чипсы, картофель фри, конф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больших количествах вредны:  сладости и солёности, маргарин и консервы, хлебобулочные изделия и особенно с дрожжами; жареные продукты, колбаса, кофе, сладкие напит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Хлебобулочные изделия"/>
          <p:cNvPicPr/>
          <p:nvPr/>
        </p:nvPicPr>
        <p:blipFill>
          <a:blip r:embed="rId1"/>
          <a:stretch/>
        </p:blipFill>
        <p:spPr>
          <a:xfrm>
            <a:off x="5219640" y="3716280"/>
            <a:ext cx="2867040" cy="216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Вредные продукты"/>
          <p:cNvPicPr/>
          <p:nvPr/>
        </p:nvPicPr>
        <p:blipFill>
          <a:blip r:embed="rId2"/>
          <a:stretch/>
        </p:blipFill>
        <p:spPr>
          <a:xfrm>
            <a:off x="971640" y="3716280"/>
            <a:ext cx="2867040" cy="215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здоровому питанию относится и потребление необходимого количества воды. Вода – необходимый компонент всех жизненно важных процессов в организме. От двух до трех литров в день. Не только с целью удовлетворить жажду, но и для того, чтобы вывести из организма отложения и кислые продукты, образующиеся в ходе обмена веществ и выровнять кислотно-щелочной  баланс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03"/>
          <p:cNvPicPr/>
          <p:nvPr/>
        </p:nvPicPr>
        <p:blipFill>
          <a:blip r:embed="rId1"/>
          <a:stretch/>
        </p:blipFill>
        <p:spPr>
          <a:xfrm>
            <a:off x="5508720" y="5000760"/>
            <a:ext cx="238104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60"/>
          <p:cNvPicPr/>
          <p:nvPr/>
        </p:nvPicPr>
        <p:blipFill>
          <a:blip r:embed="rId2"/>
          <a:stretch/>
        </p:blipFill>
        <p:spPr>
          <a:xfrm>
            <a:off x="2195640" y="5357880"/>
            <a:ext cx="114300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560" y="476280"/>
            <a:ext cx="84358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шьте разнообразную пищу, поддерживайте нормальный ве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йте в рацион больше овощей, фрук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айте режим 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е должно быть сбалансированным и энергетически оправданны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е питание –причи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х болезн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свежие овощи фрукты "/>
          <p:cNvPicPr/>
          <p:nvPr/>
        </p:nvPicPr>
        <p:blipFill>
          <a:blip r:embed="rId1"/>
          <a:stretch/>
        </p:blipFill>
        <p:spPr>
          <a:xfrm>
            <a:off x="5786280" y="4741920"/>
            <a:ext cx="2714760" cy="16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9:33:33Z</dcterms:created>
  <dc:creator>User</dc:creator>
  <dc:description/>
  <dc:language>en-US</dc:language>
  <cp:lastModifiedBy>Светлана</cp:lastModifiedBy>
  <dcterms:modified xsi:type="dcterms:W3CDTF">2022-02-15T20:07:29Z</dcterms:modified>
  <cp:revision>32</cp:revision>
  <dc:subject/>
  <dc:title>Слайд 1</dc:title>
</cp:coreProperties>
</file>